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3F5-3C33-4DD1-AB80-D823FC58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221-2658-46DE-848B-1F4D2459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FBF-9871-41F8-9F8D-EE5EDF63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EEF-834D-43EA-A723-26CB6881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AC7-024C-44FD-B03D-57FA465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A82-92D8-4E7A-AB25-B528C57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6C1-1AF0-4FEE-9522-8BE8E07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AF2-643C-43B7-B5DD-2128DF9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AD8-ABAE-4CBC-BA64-8BA0D74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92E-5D9A-407F-B115-F5CB61D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CB4-6F28-4553-ACEA-669E80A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3C9-8936-4C48-9F64-BC86C27A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9ECB-810A-484E-A6D7-548D4112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116920" cy="201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2120" y="3313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152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12000" cy="2984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80150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68468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6768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18288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182880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1905120"/>
            <a:ext cx="152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756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3520" y="4935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4815000" cy="55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02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065800" cy="104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1905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19810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22860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47:14Z</dcterms:created>
  <dc:creator>Graham</dc:creator>
  <dc:description/>
  <dc:language>en-US</dc:language>
  <cp:lastModifiedBy>Graham</cp:lastModifiedBy>
  <dcterms:modified xsi:type="dcterms:W3CDTF">2011-10-22T22:47:19Z</dcterms:modified>
  <cp:revision>1</cp:revision>
  <dc:subject/>
  <dc:title>Slide 1</dc:title>
</cp:coreProperties>
</file>